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687-578A-4C02-B9B0-AA6A1BE1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2B7-D513-4042-ADAB-F5F6B7AD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144F-5CF7-4559-8D8F-A81E6F08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840-5ABB-44E9-BA10-E5B7DD66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549-6EE5-4604-8B76-801E00B7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49F-1775-476D-BAEA-421D71BF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AA5-4CF9-4441-BCF7-F229C607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67E-CA85-48E8-8F54-E2A6068E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72D-6067-4FA1-87FE-8106A4CB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D87-FF18-49B4-881F-5A9A85CF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04F-F663-4D17-A3FE-6B2B192B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75A-CF4B-4E12-A796-02FEE4A0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B9F7-A9FC-4959-8AD1-4864395B67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senske.wikispaces.com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914400" y="-212760"/>
            <a:ext cx="7315200" cy="5381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28600" y="4876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lease find your seat (name on index car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8" descr=""/>
          <p:cNvPicPr/>
          <p:nvPr/>
        </p:nvPicPr>
        <p:blipFill>
          <a:blip r:embed="rId1"/>
          <a:stretch/>
        </p:blipFill>
        <p:spPr>
          <a:xfrm>
            <a:off x="3144960" y="1517760"/>
            <a:ext cx="2732040" cy="927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0"/>
          <p:cNvSpPr/>
          <p:nvPr/>
        </p:nvSpPr>
        <p:spPr>
          <a:xfrm>
            <a:off x="304920" y="2482920"/>
            <a:ext cx="86104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* Please write this down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cnelis.wikispaces.com</a:t>
            </a: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2"/>
          <p:cNvSpPr/>
          <p:nvPr/>
        </p:nvSpPr>
        <p:spPr>
          <a:xfrm>
            <a:off x="228600" y="8380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Section 1.1 n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304920" y="411120"/>
            <a:ext cx="876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lease write your name in your textboo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04920" y="213372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lease look over the book for any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ecord your name and book number and any problems on the sheet being passed aroun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3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1541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6094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Philly and N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609480" y="1868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Virginia T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09480" y="39258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njoy running (half marathons, 10K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09480" y="461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ach X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09480" y="5297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lso teach AP Stat &amp; Applied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609480" y="2610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uated with degree in Math, minors in Spanish and 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1447920" y="1182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nalyzing da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447920" y="20001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aking conclusions…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oth small and broa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Rectangle 6" descr=""/>
          <p:cNvPicPr/>
          <p:nvPr/>
        </p:nvPicPr>
        <p:blipFill>
          <a:blip r:embed="rId1"/>
          <a:stretch/>
        </p:blipFill>
        <p:spPr>
          <a:xfrm>
            <a:off x="2060640" y="152280"/>
            <a:ext cx="538776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1447920" y="3352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mbination of Math and Writ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447920" y="4006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earning through experiments/studies/data col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3"/>
          <p:cNvSpPr/>
          <p:nvPr/>
        </p:nvSpPr>
        <p:spPr>
          <a:xfrm>
            <a:off x="1285920" y="8017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3 ring bi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1295280" y="1487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Rectangle 15" descr=""/>
          <p:cNvPicPr/>
          <p:nvPr/>
        </p:nvPicPr>
        <p:blipFill>
          <a:blip r:embed="rId1"/>
          <a:stretch/>
        </p:blipFill>
        <p:spPr>
          <a:xfrm>
            <a:off x="2730600" y="-36360"/>
            <a:ext cx="2908080" cy="920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6"/>
          <p:cNvSpPr/>
          <p:nvPr/>
        </p:nvSpPr>
        <p:spPr>
          <a:xfrm>
            <a:off x="1295280" y="2173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: 83+, 84, or 84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Rectangle 17" descr=""/>
          <p:cNvPicPr/>
          <p:nvPr/>
        </p:nvPicPr>
        <p:blipFill>
          <a:blip r:embed="rId2"/>
          <a:stretch/>
        </p:blipFill>
        <p:spPr>
          <a:xfrm>
            <a:off x="2262240" y="2846520"/>
            <a:ext cx="3846600" cy="920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18"/>
          <p:cNvSpPr/>
          <p:nvPr/>
        </p:nvSpPr>
        <p:spPr>
          <a:xfrm>
            <a:off x="1285920" y="3773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ersonal Responsibility &amp; Resp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1295280" y="4459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 prepared for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1295280" y="51451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ell phone poli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4"/>
          <p:cNvSpPr/>
          <p:nvPr/>
        </p:nvSpPr>
        <p:spPr>
          <a:xfrm>
            <a:off x="2743200" y="64944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bs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43200" y="133524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s &amp; Cu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Rectangle 6" descr=""/>
          <p:cNvPicPr/>
          <p:nvPr/>
        </p:nvPicPr>
        <p:blipFill>
          <a:blip r:embed="rId1"/>
          <a:stretch/>
        </p:blipFill>
        <p:spPr>
          <a:xfrm>
            <a:off x="2438280" y="-85680"/>
            <a:ext cx="3492720" cy="927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8" descr="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768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3"/>
          <p:cNvSpPr/>
          <p:nvPr/>
        </p:nvSpPr>
        <p:spPr>
          <a:xfrm>
            <a:off x="1600200" y="2762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: HW &amp; C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600200" y="337176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: HW = 5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W = var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1600200" y="44989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redit: HW = complete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W = correct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1600200" y="57340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 assignments: HW = 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W = ½ cre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ectangle 6" descr=""/>
          <p:cNvPicPr/>
          <p:nvPr/>
        </p:nvPicPr>
        <p:blipFill>
          <a:blip r:embed="rId1"/>
          <a:stretch/>
        </p:blipFill>
        <p:spPr>
          <a:xfrm>
            <a:off x="384120" y="0"/>
            <a:ext cx="8478720" cy="920880"/>
          </a:xfrm>
          <a:prstGeom prst="rect">
            <a:avLst/>
          </a:prstGeom>
          <a:ln w="0">
            <a:noFill/>
          </a:ln>
        </p:spPr>
      </p:pic>
      <p:sp>
        <p:nvSpPr>
          <p:cNvPr id="74" name="TextBox 12"/>
          <p:cNvSpPr/>
          <p:nvPr/>
        </p:nvSpPr>
        <p:spPr>
          <a:xfrm>
            <a:off x="1905120" y="838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nnounced/unannounc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1905120" y="154296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s- allowed on all, cleared before &amp; af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Rectangle 14" descr=""/>
          <p:cNvPicPr/>
          <p:nvPr/>
        </p:nvPicPr>
        <p:blipFill>
          <a:blip r:embed="rId2"/>
          <a:stretch/>
        </p:blipFill>
        <p:spPr>
          <a:xfrm>
            <a:off x="2895480" y="4376880"/>
            <a:ext cx="2494080" cy="9205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5"/>
          <p:cNvSpPr/>
          <p:nvPr/>
        </p:nvSpPr>
        <p:spPr>
          <a:xfrm>
            <a:off x="1905120" y="5297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 (3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1905120" y="5983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 &amp; Late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1905120" y="2782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C &amp; F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1905120" y="3468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-te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838080" y="838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= 8%, all M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Rectangle 6" descr=""/>
          <p:cNvPicPr/>
          <p:nvPr/>
        </p:nvPicPr>
        <p:blipFill>
          <a:blip r:embed="rId1"/>
          <a:stretch/>
        </p:blipFill>
        <p:spPr>
          <a:xfrm>
            <a:off x="1054080" y="146160"/>
            <a:ext cx="7126200" cy="7682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38080" y="16398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re Assessments (4)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% each, done in class, 12% to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Rectangle 8" descr=""/>
          <p:cNvPicPr/>
          <p:nvPr/>
        </p:nvPicPr>
        <p:blipFill>
          <a:blip r:embed="rId2"/>
          <a:stretch/>
        </p:blipFill>
        <p:spPr>
          <a:xfrm>
            <a:off x="2822400" y="3657600"/>
            <a:ext cx="3133800" cy="920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0"/>
          <p:cNvSpPr/>
          <p:nvPr/>
        </p:nvSpPr>
        <p:spPr>
          <a:xfrm>
            <a:off x="2514600" y="4495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fore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2514600" y="5181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fter school (certain day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2514600" y="5830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l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914400" y="60804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rking Perio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W = 15%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asswork = 25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izzes/Tests/Projects = 6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Rectangle 6" descr=""/>
          <p:cNvPicPr/>
          <p:nvPr/>
        </p:nvPicPr>
        <p:blipFill>
          <a:blip r:embed="rId1"/>
          <a:stretch/>
        </p:blipFill>
        <p:spPr>
          <a:xfrm>
            <a:off x="3309840" y="-85680"/>
            <a:ext cx="2444760" cy="927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914400" y="29718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rderline grades (79.48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Rectangle 8" descr=""/>
          <p:cNvPicPr/>
          <p:nvPr/>
        </p:nvPicPr>
        <p:blipFill>
          <a:blip r:embed="rId2"/>
          <a:stretch/>
        </p:blipFill>
        <p:spPr>
          <a:xfrm>
            <a:off x="1828800" y="3584520"/>
            <a:ext cx="5578560" cy="920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10"/>
          <p:cNvSpPr/>
          <p:nvPr/>
        </p:nvSpPr>
        <p:spPr>
          <a:xfrm>
            <a:off x="1828800" y="4343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1 = 40%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1828800" y="49528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2 = 4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1828800" y="5562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= 8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4 Core Assessments = 12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19:48Z</dcterms:created>
  <dc:creator>Lauren Senske</dc:creator>
  <dc:description/>
  <dc:language>en-US</dc:language>
  <cp:lastModifiedBy>MCNELIS, LAUREN</cp:lastModifiedBy>
  <dcterms:modified xsi:type="dcterms:W3CDTF">2012-09-02T18:04:13Z</dcterms:modified>
  <cp:revision>46</cp:revision>
  <dc:subject/>
  <dc:title>Slide 1</dc:title>
</cp:coreProperties>
</file>